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75E3-C334-45D4-A173-396EA7D14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698E-E1F0-41CA-B191-A205C5727719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1F6-629B-4C86-80CE-3E571731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5F3-F2D3-4108-B05C-DE430468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504-948F-4B99-A03D-D6B26C17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143-85F6-4E1B-B40C-0D48A611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F57F-E648-4350-9EC7-D4BC791C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1C1C-FBAA-410F-9C7C-732AFB63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9219-8DCB-4928-9820-A35151E0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A2C-FC7C-455A-A680-9B0671F9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1C26-AF25-48A9-8455-8D2227FF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1E7B-74B1-43DC-A2D3-09C888D2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C2AD-F16B-472F-B707-C93F2C4E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E7F-6501-43D3-887D-F345800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134E-DC80-4A0C-B6CA-E5F98DC3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1A37-CA21-4E08-8E98-DBB635A5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4416-EE66-4FC1-877B-747991B2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9874-D15F-44CD-A864-0B6CFC09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7554-EB03-41A1-85C9-EBEF5337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706-6439-4B49-AFC7-9D5647FE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243-B0CD-4966-89DF-8BFD914D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C03-8B66-4DD0-A2E5-884A8C98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327-074D-42F5-BE7A-34D3C67F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18F-43E9-4356-9146-E46F9F3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CB2-BDD3-4D5B-BB17-4DBDC214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2CF-E5DE-45FC-A07C-BD9E0F1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D7EA-8A9C-41E0-B462-D8F0F452047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598F-4B67-40C3-99A6-EBBD47E2EB2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955800" y="1714680"/>
            <a:ext cx="74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Открытый урок русского языка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54400" y="307008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В 4 классе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484360" y="4078440"/>
            <a:ext cx="4321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( "Школа России")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WordArt 5" descr=""/>
          <p:cNvPicPr/>
          <p:nvPr/>
        </p:nvPicPr>
        <p:blipFill>
          <a:blip r:embed="rId7"/>
          <a:stretch/>
        </p:blipFill>
        <p:spPr>
          <a:xfrm>
            <a:off x="7443720" y="749160"/>
            <a:ext cx="103500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6" descr=""/>
          <p:cNvPicPr/>
          <p:nvPr/>
        </p:nvPicPr>
        <p:blipFill>
          <a:blip r:embed="rId8"/>
          <a:stretch/>
        </p:blipFill>
        <p:spPr>
          <a:xfrm>
            <a:off x="7113600" y="4479840"/>
            <a:ext cx="1000080" cy="16398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9"/>
          <a:stretch/>
        </p:blipFill>
        <p:spPr>
          <a:xfrm>
            <a:off x="1852560" y="622440"/>
            <a:ext cx="100008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8" descr=""/>
          <p:cNvPicPr/>
          <p:nvPr/>
        </p:nvPicPr>
        <p:blipFill>
          <a:blip r:embed="rId10"/>
          <a:stretch/>
        </p:blipFill>
        <p:spPr>
          <a:xfrm>
            <a:off x="6827760" y="2766960"/>
            <a:ext cx="103032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9" descr=""/>
          <p:cNvPicPr/>
          <p:nvPr/>
        </p:nvPicPr>
        <p:blipFill>
          <a:blip r:embed="rId11"/>
          <a:stretch/>
        </p:blipFill>
        <p:spPr>
          <a:xfrm>
            <a:off x="1109520" y="3627360"/>
            <a:ext cx="100044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10" descr=""/>
          <p:cNvPicPr/>
          <p:nvPr/>
        </p:nvPicPr>
        <p:blipFill>
          <a:blip r:embed="rId12"/>
          <a:stretch/>
        </p:blipFill>
        <p:spPr>
          <a:xfrm>
            <a:off x="3541680" y="907920"/>
            <a:ext cx="1030320" cy="1530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2627280" y="5373720"/>
            <a:ext cx="43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WordArt 9" descr=""/>
          <p:cNvPicPr/>
          <p:nvPr/>
        </p:nvPicPr>
        <p:blipFill>
          <a:blip r:embed="rId15"/>
          <a:stretch/>
        </p:blipFill>
        <p:spPr>
          <a:xfrm>
            <a:off x="1395360" y="5340240"/>
            <a:ext cx="1000080" cy="15303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9" descr=""/>
          <p:cNvPicPr/>
          <p:nvPr/>
        </p:nvPicPr>
        <p:blipFill>
          <a:blip r:embed="rId16"/>
          <a:stretch/>
        </p:blipFill>
        <p:spPr>
          <a:xfrm>
            <a:off x="5754600" y="622440"/>
            <a:ext cx="120672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ты да я да мы с тобой.mid" descr=""/>
          <p:cNvPicPr/>
          <p:nvPr/>
        </p:nvPicPr>
        <p:blipFill>
          <a:blip r:embed="rId17"/>
          <a:stretch/>
        </p:blipFill>
        <p:spPr>
          <a:xfrm>
            <a:off x="11430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603800" y="2428920"/>
            <a:ext cx="6561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402000"/>
                </a:solidFill>
                <a:latin typeface="Times New Roman"/>
              </a:rPr>
              <a:t>Загадки</a:t>
            </a:r>
            <a:endParaRPr b="0" lang="en-US" sz="1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642960"/>
            <a:ext cx="49291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Четвертое - лишнее»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71760" y="1857240"/>
            <a:ext cx="6019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1) он, она, оно, 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71760" y="3143160"/>
            <a:ext cx="6019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2) я, ты, они, он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61080" y="450072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3) ты, к, от, за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3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8001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ог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мн.ч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риедете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нарисую елочку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чем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улетают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у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ед.ч.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деш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Завтр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йдем в кино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акую задач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решает?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8604360" y="6381720"/>
            <a:ext cx="142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402000"/>
                </a:solidFill>
                <a:latin typeface="Arial"/>
              </a:rPr>
              <a:t>11</a:t>
            </a:r>
            <a:endParaRPr b="0" lang="en-US" sz="2400" spc="1" strike="noStrike">
              <a:ln w="0">
                <a:noFill/>
              </a:ln>
              <a:solidFill>
                <a:srgbClr val="402000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714760" y="2071800"/>
            <a:ext cx="43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1643040" y="2643120"/>
            <a:ext cx="216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3000240" y="3357720"/>
            <a:ext cx="50328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2500200" y="4000680"/>
            <a:ext cx="416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т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2857680" y="4643280"/>
            <a:ext cx="431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4286160" y="5357880"/>
            <a:ext cx="432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47280" y="765000"/>
            <a:ext cx="707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, ты, он, она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целая страна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дружная семья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 слове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-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Сто тысяч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!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5" name="Picture 4" descr="J0299711"/>
          <p:cNvPicPr/>
          <p:nvPr/>
        </p:nvPicPr>
        <p:blipFill>
          <a:blip r:embed="rId1"/>
          <a:stretch/>
        </p:blipFill>
        <p:spPr>
          <a:xfrm>
            <a:off x="6415200" y="3933720"/>
            <a:ext cx="1604880" cy="201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E:\лена\все с флешки 19 апреля 2009 г\шульга защита\рисунки\сердца\59fce074aa24t.jpg"/>
          <p:cNvPicPr/>
          <p:nvPr/>
        </p:nvPicPr>
        <p:blipFill>
          <a:blip r:embed="rId1"/>
          <a:stretch/>
        </p:blipFill>
        <p:spPr>
          <a:xfrm>
            <a:off x="1428840" y="357120"/>
            <a:ext cx="7286400" cy="60008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2"/>
          <p:cNvSpPr txBox="1"/>
          <p:nvPr/>
        </p:nvSpPr>
        <p:spPr>
          <a:xfrm>
            <a:off x="3071880" y="2000160"/>
            <a:ext cx="4643280" cy="22478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+ Я 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ефлексия «Светофор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928800" y="2428920"/>
            <a:ext cx="7668720" cy="2452680"/>
            <a:chOff x="928800" y="2428920"/>
            <a:chExt cx="7668720" cy="2452680"/>
          </a:xfrm>
        </p:grpSpPr>
        <p:sp>
          <p:nvSpPr>
            <p:cNvPr id="180" name="AutoShape 3"/>
            <p:cNvSpPr/>
            <p:nvPr/>
          </p:nvSpPr>
          <p:spPr>
            <a:xfrm>
              <a:off x="9288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bfae2"/>
                  </a:solidFill>
                  <a:latin typeface="Calibri"/>
                </a:rPr>
                <a:t>Не понял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>
              <a:off x="36432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bfae2"/>
                  </a:solidFill>
                  <a:latin typeface="Calibri"/>
                </a:rPr>
                <a:t>Знаю и понятно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28704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Calibri"/>
                </a:rPr>
                <a:t>Немного что-то знаю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428920" y="428760"/>
            <a:ext cx="4968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bfae2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танем грамотеями</a:t>
            </a:r>
            <a:endParaRPr b="1" lang="en-US" sz="2400" spc="1" strike="noStrike">
              <a:ln w="22320">
                <a:solidFill>
                  <a:srgbClr val="fbfae2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571760" y="2428920"/>
            <a:ext cx="7130880" cy="251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ма: Общее понятие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о личных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местоимениях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rcRect l="5512" t="51251" r="0" b="5139"/>
          <a:stretch/>
        </p:blipFill>
        <p:spPr>
          <a:xfrm>
            <a:off x="6215040" y="928800"/>
            <a:ext cx="2457360" cy="16430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12" name="Picture 3" descr=""/>
          <p:cNvPicPr/>
          <p:nvPr/>
        </p:nvPicPr>
        <p:blipFill>
          <a:blip r:embed="rId8"/>
          <a:srcRect l="1930" t="38269" r="3226" b="3711"/>
          <a:stretch/>
        </p:blipFill>
        <p:spPr>
          <a:xfrm>
            <a:off x="1000080" y="3429000"/>
            <a:ext cx="3006720" cy="288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J0232133"/>
          <p:cNvPicPr/>
          <p:nvPr/>
        </p:nvPicPr>
        <p:blipFill>
          <a:blip r:embed="rId1"/>
          <a:stretch/>
        </p:blipFill>
        <p:spPr>
          <a:xfrm>
            <a:off x="7094520" y="357120"/>
            <a:ext cx="1722600" cy="1571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Rectangle 9"/>
          <p:cNvSpPr/>
          <p:nvPr/>
        </p:nvSpPr>
        <p:spPr>
          <a:xfrm>
            <a:off x="1071720" y="666720"/>
            <a:ext cx="77151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 школы растут красивые б.резы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широко раскинули свои ветв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вошел в спортивный зал.    поздоровался с друзьям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 ходила в магазин.                купила хлеб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видел на окне п.м.доры.                       были большие, красные, спелы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Ранней весной        отправились в пут.ш.стви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роходило по городам Росс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147320" y="107172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Б.рез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6368400" y="17859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220000" y="30002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580720" y="37148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.м.дор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1016640" y="5286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ут.ш.ств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214280" y="1071720"/>
            <a:ext cx="1030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71720" y="1071720"/>
            <a:ext cx="1428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429240" y="1785960"/>
            <a:ext cx="78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500800" y="3000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29200" y="3714840"/>
            <a:ext cx="121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71800" y="5286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1145520" y="3714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1074960" y="36432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Прямоугольник 25"/>
          <p:cNvSpPr/>
          <p:nvPr/>
        </p:nvSpPr>
        <p:spPr>
          <a:xfrm>
            <a:off x="3364200" y="48578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ы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362760" y="492912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285920" y="428760"/>
            <a:ext cx="7143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слова отличные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жные и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ЛИЧНЫЕ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, без сомнения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МЕСТОИМЕНИЯ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71720" y="622440"/>
            <a:ext cx="75722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"Толковый словарь" Ожего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осуществляемый самим, непосредственно данным лицом, данной личностью (т.е. человеком). Личный пример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касающийся непосредственно какого-нибудь лица, лиц, принадлежащий какому-нибудь лицу. Личное имущество, личное дел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071800" y="2500200"/>
          <a:ext cx="5429160" cy="3133800"/>
        </p:xfrm>
        <a:graphic>
          <a:graphicData uri="http://schemas.openxmlformats.org/drawingml/2006/table">
            <a:tbl>
              <a:tblPr/>
              <a:tblGrid>
                <a:gridCol w="1452600"/>
                <a:gridCol w="2154240"/>
                <a:gridCol w="1822320"/>
              </a:tblGrid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0600" y="5643720"/>
            <a:ext cx="57132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286240" y="200016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1285920" y="4643280"/>
            <a:ext cx="142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3357720" y="464328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5000760" y="5643720"/>
            <a:ext cx="142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000760" y="471492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3214800" y="564372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1214280" y="5643720"/>
            <a:ext cx="171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6786720" y="4643280"/>
            <a:ext cx="171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00008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Ед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485784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40741E-007 L 0.51753 -0.44421 E">
                                      <p:cBhvr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1505 L -0.21302 -0.29722 E">
                                      <p:cBhvr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8594 -0.45162 E">
                                      <p:cBhvr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5 -0.00324 L -0.12327 -0.00324 E">
                                      <p:cBhvr>
                                        <p:cTn id="10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3704 L 0.00573 -0.22268 E">
                                      <p:cBhvr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221 -0.08611 E">
                                      <p:cBhvr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0.09549 -0.38009 E">
                                      <p:cBhvr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65087 -0.33819 E">
                                      <p:cBhvr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00080" y="1928880"/>
          <a:ext cx="76438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3840120"/>
                <a:gridCol w="2803680"/>
              </a:tblGrid>
              <a:tr h="108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1571760" y="50004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00160" y="2428560"/>
            <a:ext cx="571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6715080" y="2214720"/>
            <a:ext cx="142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4071960" y="2286000"/>
            <a:ext cx="1000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5857920" y="24289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357720" y="2428920"/>
            <a:ext cx="928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2357280" y="2143080"/>
            <a:ext cx="1285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786200" y="2428920"/>
            <a:ext cx="1214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7643880" y="2428920"/>
            <a:ext cx="121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15747 0.10509 E"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08663 0.29306 E">
                                      <p:cBhvr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14618 0.4456 E">
                                      <p:cBhvr>
                                        <p:cTn id="13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9306 0.4872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1094 0.4456 E">
                                      <p:cBhvr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-0.02118 0.14097 E">
                                      <p:cBhvr>
                                        <p:cTn id="14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8437 0.26713 E">
                                      <p:cBhvr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11024 0.43056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Picture 4" descr="{50A015BA-8DD5-4A04-B848-FB0070199EBA}"/>
          <p:cNvPicPr/>
          <p:nvPr/>
        </p:nvPicPr>
        <p:blipFill>
          <a:blip r:embed="rId1"/>
          <a:stretch/>
        </p:blipFill>
        <p:spPr>
          <a:xfrm>
            <a:off x="1928880" y="2000160"/>
            <a:ext cx="5857920" cy="4505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3071880" y="6072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м.р.      ж.р.     с.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25:18Z</dcterms:created>
  <dc:creator>Ученик</dc:creator>
  <dc:description/>
  <dc:language>en-US</dc:language>
  <cp:lastModifiedBy>Admin</cp:lastModifiedBy>
  <dcterms:modified xsi:type="dcterms:W3CDTF">2016-02-09T16:59:06Z</dcterms:modified>
  <cp:revision>216</cp:revision>
  <dc:subject/>
  <dc:title>Слайд 1</dc:title>
</cp:coreProperties>
</file>