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3F2-D4A1-45B7-8071-420E2DD2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9F9-E935-4C80-AA72-053BF060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A44-00CC-489B-82E6-1BC36A5C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50A-9EA1-466C-B2CF-18368297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FD5-0001-4B80-91A0-21427563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5E8-03D8-4721-801D-D4407197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711-0A2F-419A-8847-3244A6BC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AFA-56D8-4487-8B69-CF30D0A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7B3-9D98-478D-8CCA-19933CF7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421-BFDE-406C-BFF5-946C3004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93F-F6B7-4E1E-A56E-6DD1F106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FEB-4840-4125-BB94-2FE3B554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74A3-EC54-497C-BF06-5B19C661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рисования на тему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исование с натуры или по представлению мамонтенк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Формирование графического умения и навыка в изображении предметов слож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Развивать наблюд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Воспитывать любовь к природе, гордость за свой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78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нтенок Люба был найден в мае 2007 года на берегу реки Юрибей в Ямальском районе Ямало-Ненецкого автономного округа. Нашел его оленевод Юрий Худи, в честь жены оленевода и назвали мамонтен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 оказалась уникальной находкой – ее тело очень хорошо сохранилось, уцелели и кожные покровы, и внутренние органы животног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9480" y="1700280"/>
            <a:ext cx="6845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а гиб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жила  42 тыс. лет назад,   погибла в возрасте нескольких месяцев и сейчас у специалистов уже не осталось сомнений относительно причин ее смерти – Люба утонула в р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3500280"/>
            <a:ext cx="47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этом свидетельствует большое количество речного ила, обнаруженного в желудке мамонтенка. Кроме того, ученые не нашли никаких признаков болезни, истощения или травм на теле мамонтенка. Видимо, Люба провалилась под лед и утонула, а холодная вода защитила тело от хищников и от разлож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беспечило сохранность тела в течение десятков тысяч лет в вечной мерзлоте, а затем предотвратило разложение и уничтожение его падальщиками в течение почти года после того, как тело было вымыто из мерзлоты течением реки. Поскольку тело мамонтёнка было найдено в мае, то есть до того, как вскрывается река, учёные предполагают, что оно было вынесено течением на поверхность за год до момента находки, во время половодья в июне 20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5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ва года, прошедшие с момента находки, Люба уже успела попутешествовать – сначала мамонтенка доставили в Салехард, в музейно-выставочный комплекс имени Шемановского, затем перевезли для более детального изучения в Санкт-Петербур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44640"/>
            <a:ext cx="6096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оду Любу возили в Японию, где специалисты методом трехмерной томографии просканировали все тело животного и получили изображения всех его внутренних орган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32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735280" cy="295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914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выполнения рису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7:29:23Z</dcterms:created>
  <dc:creator>Наталья Аликеевна</dc:creator>
  <dc:description/>
  <dc:language>en-US</dc:language>
  <cp:lastModifiedBy>Наталья Аликеевна</cp:lastModifiedBy>
  <dcterms:modified xsi:type="dcterms:W3CDTF">2010-11-20T06:05:53Z</dcterms:modified>
  <cp:revision>11</cp:revision>
  <dc:subject/>
  <dc:title> Урок рисования на тему «мамонтенок Люба» </dc:title>
</cp:coreProperties>
</file>