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B60-BA86-401D-852C-A0C4C4B9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430-3779-415E-81D8-5A4B9ADB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5F6-E054-4536-985C-C2F740F6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ADC-EE64-4B9A-84DF-DAB82136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1E9-26CB-49D3-B094-5E50C8E4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E0D-682B-4C85-BFBC-CCAF86D4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EB2-9E74-432E-A6A8-1C52A1F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56D-B034-43EE-9561-26F01893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E62-63D6-4DA5-AC59-B234B38B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AE2-EBC0-4902-8B7A-5F797A3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68B-F12D-442B-B488-F009E894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58F-A08D-40FE-BE1D-8E9C05D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C92B-509E-4A23-B8F9-C05D1FBB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рисования на тему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исование с натуры или по представлению мамонтенк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460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Формирование графического умения и навыка в изображении предметов сложной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Развивать наблюд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Воспитывать любовь к природе, гордость за свой к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378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онтенок Люба был найден в мае 2007 года на берегу реки Юрибей в Ямальском районе Ямало-Ненецкого автономного округа. Нашел его оленевод Юрий Худи, в честь жены оленевода и назвали мамонтен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61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 оказалась уникальной находкой – ее тело очень хорошо сохранилось, уцелели и кожные покровы, и внутренние органы животног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9480" y="1700280"/>
            <a:ext cx="6845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а гиб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жила  42 тыс. лет назад,   погибла в возрасте нескольких месяцев и сейчас у специалистов уже не осталось сомнений относительно причин ее смерти – Люба утонула в р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3500280"/>
            <a:ext cx="4752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 этом свидетельствует большое количество речного ила, обнаруженного в желудке мамонтенка. Кроме того, ученые не нашли никаких признаков болезни, истощения или травм на теле мамонтенка. Видимо, Люба провалилась под лед и утонула, а холодная вода защитила тело от хищников и от разложе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беспечило сохранность тела в течение десятков тысяч лет в вечной мерзлоте, а затем предотвратило разложение и уничтожение его падальщиками в течение почти года после того, как тело было вымыто из мерзлоты течением реки. Поскольку тело мамонтёнка было найдено в мае, то есть до того, как вскрывается река, учёные предполагают, что оно было вынесено течением на поверхность за год до момента находки, во время половодья в июне 200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550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ва года, прошедшие с момента находки, Люба уже успела попутешествовать – сначала мамонтенка доставили в Салехард, в музейно-выставочный комплекс имени Шемановского, затем перевезли для более детального изучения в Санкт-Петербур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844640"/>
            <a:ext cx="6096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08 году Любу возили в Японию, где специалисты методом трехмерной томографии просканировали все тело животного и получили изображения всех его внутренних орган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5328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735280" cy="295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91456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280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выполнения рису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92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7:29:23Z</dcterms:created>
  <dc:creator>Наталья Аликеевна</dc:creator>
  <dc:description/>
  <dc:language>en-US</dc:language>
  <cp:lastModifiedBy>Наталья Аликеевна</cp:lastModifiedBy>
  <dcterms:modified xsi:type="dcterms:W3CDTF">2010-11-20T06:05:53Z</dcterms:modified>
  <cp:revision>11</cp:revision>
  <dc:subject/>
  <dc:title> Урок рисования на тему «мамонтенок Люба» </dc:title>
</cp:coreProperties>
</file>