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F09-7698-4070-BCAE-B91BA757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462-D26D-4AEA-8FAC-BF21ACF2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0D4-C68F-4E98-8FA0-5184CE81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3B1-5141-42B6-A0F9-1025322F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A75-7703-40B1-830B-CF3EB710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562-4C0F-4843-9149-72B362BF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AE2-158A-4CD0-A06C-9AE1010C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CED-285B-407A-BFA0-50C4A251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F46-F16B-4A14-9314-FF6AB2DC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CBE-E325-4C83-A3E3-79C0B9BE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3FE-07D4-4EA7-9534-139B3C90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B64-3687-4402-8EBC-96E01879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CED8-0A7F-4FC2-852A-C49B30F1B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рисования на тему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исование с натуры или по представлению мамонтенк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460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Формирование графического умения и навыка в изображении предметов сложной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Развивать наблюд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Воспитывать любовь к природе, гордость за свой к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378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онтенок Люба был найден в мае 2007 года на берегу реки Юрибей в Ямальском районе Ямало-Ненецкого автономного округа. Нашел его оленевод Юрий Худи, в честь жены оленевода и назвали мамонтен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61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 оказалась уникальной находкой – ее тело очень хорошо сохранилось, уцелели и кожные покровы, и внутренние органы животног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9480" y="1700280"/>
            <a:ext cx="6845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а гиб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жила  42 тыс. лет назад,   погибла в возрасте нескольких месяцев и сейчас у специалистов уже не осталось сомнений относительно причин ее смерти – Люба утонула в р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3500280"/>
            <a:ext cx="4752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 этом свидетельствует большое количество речного ила, обнаруженного в желудке мамонтенка. Кроме того, ученые не нашли никаких признаков болезни, истощения или травм на теле мамонтенка. Видимо, Люба провалилась под лед и утонула, а холодная вода защитила тело от хищников и от разложе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беспечило сохранность тела в течение десятков тысяч лет в вечной мерзлоте, а затем предотвратило разложение и уничтожение его падальщиками в течение почти года после того, как тело было вымыто из мерзлоты течением реки. Поскольку тело мамонтёнка было найдено в мае, то есть до того, как вскрывается река, учёные предполагают, что оно было вынесено течением на поверхность за год до момента находки, во время половодья в июне 200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550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ва года, прошедшие с момента находки, Люба уже успела попутешествовать – сначала мамонтенка доставили в Салехард, в музейно-выставочный комплекс имени Шемановского, затем перевезли для более детального изучения в Санкт-Петербур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844640"/>
            <a:ext cx="6096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08 году Любу возили в Японию, где специалисты методом трехмерной томографии просканировали все тело животного и получили изображения всех его внутренних орган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5328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735280" cy="295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91456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280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выполнения рису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92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7:29:23Z</dcterms:created>
  <dc:creator>Наталья Аликеевна</dc:creator>
  <dc:description/>
  <dc:language>en-US</dc:language>
  <cp:lastModifiedBy>Наталья Аликеевна</cp:lastModifiedBy>
  <dcterms:modified xsi:type="dcterms:W3CDTF">2010-11-20T06:05:53Z</dcterms:modified>
  <cp:revision>11</cp:revision>
  <dc:subject/>
  <dc:title> Урок рисования на тему «мамонтенок Люба» </dc:title>
</cp:coreProperties>
</file>